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0920" y="3702600"/>
            <a:ext cx="8642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920" y="370260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9280" y="370260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73040" y="105228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0" y="105228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50920" y="370260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73040" y="370260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94800" y="3702600"/>
            <a:ext cx="27824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0920" y="188640"/>
            <a:ext cx="8642160" cy="36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50920" y="370260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9280" y="370260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92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9280" y="1052280"/>
            <a:ext cx="421704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0920" y="3702600"/>
            <a:ext cx="8642160" cy="24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920" y="1052280"/>
            <a:ext cx="864216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"/>
          <p:cNvPicPr/>
          <p:nvPr/>
        </p:nvPicPr>
        <p:blipFill>
          <a:blip r:embed="rId1"/>
          <a:stretch/>
        </p:blipFill>
        <p:spPr>
          <a:xfrm>
            <a:off x="1619280" y="1557360"/>
            <a:ext cx="5853240" cy="4390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9" name="Text Box 3"/>
          <p:cNvSpPr/>
          <p:nvPr/>
        </p:nvSpPr>
        <p:spPr>
          <a:xfrm>
            <a:off x="1187280" y="404640"/>
            <a:ext cx="71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though the exact position of the labels may vary, the labels should be in approximately these lo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 Box 4"/>
          <p:cNvSpPr/>
          <p:nvPr/>
        </p:nvSpPr>
        <p:spPr>
          <a:xfrm>
            <a:off x="4788000" y="6381720"/>
            <a:ext cx="41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ess the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sc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key to end the Power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e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Studies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 the correct oce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50920" y="1052280"/>
            <a:ext cx="8642160" cy="5073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1125360"/>
            <a:ext cx="8964720" cy="4945320"/>
          </a:xfrm>
          <a:prstGeom prst="rect">
            <a:avLst/>
          </a:prstGeom>
          <a:ln w="0">
            <a:noFill/>
          </a:ln>
        </p:spPr>
      </p:pic>
      <p:sp>
        <p:nvSpPr>
          <p:cNvPr id="44" name="Line Callout 1 3"/>
          <p:cNvSpPr/>
          <p:nvPr/>
        </p:nvSpPr>
        <p:spPr>
          <a:xfrm>
            <a:off x="523800" y="5518080"/>
            <a:ext cx="1224000" cy="4809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cif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Callout 1 4"/>
          <p:cNvSpPr/>
          <p:nvPr/>
        </p:nvSpPr>
        <p:spPr>
          <a:xfrm>
            <a:off x="1574640" y="6194520"/>
            <a:ext cx="1224000" cy="43164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lan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Callout 1 5"/>
          <p:cNvSpPr/>
          <p:nvPr/>
        </p:nvSpPr>
        <p:spPr>
          <a:xfrm>
            <a:off x="3641760" y="5392800"/>
            <a:ext cx="1224000" cy="4809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Callout 1 6"/>
          <p:cNvSpPr/>
          <p:nvPr/>
        </p:nvSpPr>
        <p:spPr>
          <a:xfrm>
            <a:off x="5219640" y="5965920"/>
            <a:ext cx="1224000" cy="45540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r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Callout 1 7"/>
          <p:cNvSpPr/>
          <p:nvPr/>
        </p:nvSpPr>
        <p:spPr>
          <a:xfrm>
            <a:off x="7093080" y="5392800"/>
            <a:ext cx="1150920" cy="4809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th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ee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7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cial Studies-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 the correct count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1052280"/>
            <a:ext cx="8642160" cy="507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25560" y="1125360"/>
            <a:ext cx="8964360" cy="4945320"/>
          </a:xfrm>
          <a:prstGeom prst="rect">
            <a:avLst/>
          </a:prstGeom>
          <a:ln w="0">
            <a:noFill/>
          </a:ln>
        </p:spPr>
      </p:pic>
      <p:sp>
        <p:nvSpPr>
          <p:cNvPr id="52" name="Line Callout 1 3"/>
          <p:cNvSpPr/>
          <p:nvPr/>
        </p:nvSpPr>
        <p:spPr>
          <a:xfrm>
            <a:off x="468360" y="5157720"/>
            <a:ext cx="1224000" cy="4809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Callout 1 4"/>
          <p:cNvSpPr/>
          <p:nvPr/>
        </p:nvSpPr>
        <p:spPr>
          <a:xfrm>
            <a:off x="870120" y="5883120"/>
            <a:ext cx="1223640" cy="43200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Callout 1 5"/>
          <p:cNvSpPr/>
          <p:nvPr/>
        </p:nvSpPr>
        <p:spPr>
          <a:xfrm>
            <a:off x="2411280" y="5041800"/>
            <a:ext cx="1224000" cy="4809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uth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Callout 1 6"/>
          <p:cNvSpPr/>
          <p:nvPr/>
        </p:nvSpPr>
        <p:spPr>
          <a:xfrm>
            <a:off x="3454560" y="5738760"/>
            <a:ext cx="1223640" cy="4557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Callout 1 7"/>
          <p:cNvSpPr/>
          <p:nvPr/>
        </p:nvSpPr>
        <p:spPr>
          <a:xfrm>
            <a:off x="4856040" y="5041800"/>
            <a:ext cx="1152720" cy="48096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Callout 1 8"/>
          <p:cNvSpPr/>
          <p:nvPr/>
        </p:nvSpPr>
        <p:spPr>
          <a:xfrm>
            <a:off x="6300720" y="5522760"/>
            <a:ext cx="1008000" cy="43200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uro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Callout 1 9"/>
          <p:cNvSpPr/>
          <p:nvPr/>
        </p:nvSpPr>
        <p:spPr>
          <a:xfrm>
            <a:off x="7596360" y="5889600"/>
            <a:ext cx="1223640" cy="425520"/>
          </a:xfrm>
          <a:prstGeom prst="borderCallout1">
            <a:avLst>
              <a:gd name="adj1" fmla="val 18750"/>
              <a:gd name="adj2" fmla="val -8333"/>
              <a:gd name="adj3" fmla="val 113425"/>
              <a:gd name="adj4" fmla="val -38425"/>
            </a:avLst>
          </a:prstGeom>
          <a:solidFill>
            <a:srgbClr val="ade236"/>
          </a:solidFill>
          <a:ln w="25560">
            <a:solidFill>
              <a:srgbClr val="7ea6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tarc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Use the DragandDrop Macro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920" y="836280"/>
            <a:ext cx="864216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prepare your presentation, delete the other slide and create a new blank slide. Save the ppt with a new n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a photo and drag it to fill out the sl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ert the object that you want to move – this can be an AutoShape, or you can create a textbox, or insert another picture/clipar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ssign the Drag &amp; Drop macro to the object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igh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it and choos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ction Setting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on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n Macro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sz="2000" spc="-1" strike="noStrike">
                <a:solidFill>
                  <a:srgbClr val="000000"/>
                </a:solidFill>
                <a:latin typeface="Arial"/>
              </a:rPr>
              <a:t>DragandDrop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witch to Slide Show view to test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the mac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nown Restriction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bine the DragandDrop mac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‘custom animations’ on the same sli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35800" y="6021360"/>
            <a:ext cx="489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ragandDrop Ma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sz="1400" spc="-1" strike="noStrike">
                <a:solidFill>
                  <a:srgbClr val="000000"/>
                </a:solidFill>
                <a:latin typeface="Arial"/>
              </a:rPr>
              <a:t>opyright 2005 by hw@lemitec.de and www.ppt-user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0" descr="Step_3"/>
          <p:cNvPicPr/>
          <p:nvPr/>
        </p:nvPicPr>
        <p:blipFill>
          <a:blip r:embed="rId1"/>
          <a:stretch/>
        </p:blipFill>
        <p:spPr>
          <a:xfrm>
            <a:off x="5796000" y="2997360"/>
            <a:ext cx="32194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Hans Werner Hofmann / Ute Simon</dc:creator>
  <dc:description>quiz@ppt-user.de</dc:description>
  <cp:keywords>Search Easter Eggs with Drag&amp;Drop-Makro</cp:keywords>
  <dc:language>en-US</dc:language>
  <cp:lastModifiedBy>Rachel Tillman</cp:lastModifiedBy>
  <dcterms:modified xsi:type="dcterms:W3CDTF">2012-10-29T00:49:24Z</dcterms:modified>
  <cp:revision>115</cp:revision>
  <dc:subject/>
  <dc:title>Drag&amp;Drop Macro: Easter Eggs</dc:title>
</cp:coreProperties>
</file>